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B35-0B5D-4053-B54A-E7E322F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337-9DE9-43E9-B5B4-A8DC8C1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AB3-6A40-45EE-B726-8D6F419D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D6C-42C2-4AAB-A4C5-6B51BA6D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8A1-5C42-44BD-9607-542C374B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7F8-8684-4CB1-8E09-6EC5047F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F23-865D-4C3D-AF58-67CDF80C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CC1-FE8A-4EDA-8A8F-4026F4C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C16-71B0-46DA-A827-FC208D40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852-2616-443B-9909-ED3803C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556-478B-4F97-98E9-94FF052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2D0-6F7A-4CE9-9B7A-9CDE8AB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6F9-B12D-49B1-9F2A-03D0198FBF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1120" y="1752480"/>
            <a:ext cx="631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otterdam Stu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95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58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46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495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7467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39Z</dcterms:modified>
  <cp:revision>211</cp:revision>
  <dc:subject/>
  <dc:title>Slide 1</dc:title>
</cp:coreProperties>
</file>